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6B2-4DFA-46E5-B0B5-1AFDCE0F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8D3-5724-4A0F-90E9-39925E03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86A-999D-40E8-929A-19A1D401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227-2587-4082-B6B0-7BEFF526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400-6CEE-439D-BB94-9C529F03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5C7-7CBC-4E32-8D4D-61B6CC4B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7AE-5540-4788-9375-DFC39821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112-9B3E-48F5-B91B-764D2177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269-8B03-4471-8A7E-88932B3B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2B0-BB67-4C3D-AEDC-39571C14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BAF-FCD6-46BF-A7AC-A63138AD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7EC-C3A4-4810-9AA4-9C1F20F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9E07-3AA6-41A7-B537-B0F0B28BF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6240" y="2619000"/>
            <a:ext cx="9077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paper title goes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66840" y="4216320"/>
            <a:ext cx="51739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name and the names of the people who have contributed to this presentation go here.</a:t>
            </a:r>
            <a:br>
              <a:rPr sz="18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The names and addresses of the associated institutions go her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0040" y="165240"/>
            <a:ext cx="86997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0040" y="1166760"/>
            <a:ext cx="8699760" cy="51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ubtitle 2"/>
          <p:cNvSpPr/>
          <p:nvPr/>
        </p:nvSpPr>
        <p:spPr>
          <a:xfrm>
            <a:off x="0" y="287496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6T07:41:13Z</dcterms:created>
  <dc:creator>super user</dc:creator>
  <dc:description/>
  <dc:language>en-US</dc:language>
  <cp:lastModifiedBy>USER</cp:lastModifiedBy>
  <dcterms:modified xsi:type="dcterms:W3CDTF">2021-03-04T10:57:44Z</dcterms:modified>
  <cp:revision>3</cp:revision>
  <dc:subject/>
  <dc:title>PowerPoint Presentation</dc:title>
</cp:coreProperties>
</file>